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E6BA-92B3-4235-9A01-0E6B1982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6906-5673-43AF-94DD-779C2C89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8A8D-9D1E-4CCC-BC10-F8173716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889F-BD9B-4C0E-88E2-E28949F2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E703-ECAF-4CC5-9E0E-73436BBD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BD52-2451-4737-A77B-1C3489A7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6103-33EF-42CE-8549-B6C996F5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0789-6C45-4D7E-837F-15155E78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D0FF-DDD6-4C39-A51A-FC36E3CA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8717-6C84-423A-9DDC-530381AC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08E2-40E8-420F-A5A3-19E9AC74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F02-22A0-4391-95DF-9B3BD7A9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C3A2-4EC5-4299-AA7B-09E7B5D5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2B16-10E6-46AF-B2FE-52E64C98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A5FE-58FB-4DD0-ADC9-6935B7CE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93CE-2BC9-49E4-873C-251CB393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6B12-929C-46DE-B145-22A6A359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DAFE-5868-4F4F-895D-58DAA3A5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11CB-A72C-4A1C-96C8-96EE8D07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2EEA-415D-4C13-B12E-717B0DD7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D8CB-2BA0-4269-929A-1051BD9D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D3A9-3BC5-47E4-AC5D-94697484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7EE-EDE7-4892-8854-0FDEC13D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877-A6E5-43F7-84DF-C2BBE8CF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D225-8901-46FD-A6C8-0DF296410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FC64-0D09-4179-9B4A-E2CD094E2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eterogeneous Grouping and Gifted Student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Karen Shoyk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ducation 702.22- Fall 200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fessor O’Connor-Petruso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of Content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Arial"/>
              </a:rPr>
              <a:t>-Statement of the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Arial"/>
              </a:rPr>
              <a:t>-Review of Related Litera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Arial"/>
              </a:rPr>
              <a:t>-Statement of the Hypothesi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 of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Various literature emphasis the impact of gifted or high ability students placement into heterogeneous groups/ and or classroom settings. This study will focus on, and address the following question; Do heterogeneous classrooms benefit gifted students achievemen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view of Related Literatur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696080" cy="358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terature Review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Various literature emphasizes the implementation of instructional strategies that may be used to benefit the gifted population. These strategies includ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a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sto MT"/>
              </a:rPr>
              <a:t>ability grouping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 (Kulik, 1992 ; Tieso, 2003) b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sto MT"/>
              </a:rPr>
              <a:t>differentiation of instruction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 (Cutler,1996); c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sto MT"/>
              </a:rPr>
              <a:t>enrichment activities (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Cassady, Speirs Neumeister, Adams, Cross, Dixon &amp; Pierce, 2004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sto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terature Review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Gifted students placed in heterogeneous classrooms or groups will develop frustration and anxiety, and lower self esteem. ( Benson, 2002; Holloway, 2003; Rogers, 2002; Cramond, Benson,&amp; Martian, 200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Gifted students will not be given ample learning opportunities when placed in mixed ability settings due to the material and the pace of instruction.(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Times New Roman"/>
              </a:rPr>
              <a:t>Lou, Abrami,Spence, Poulsen, Chambers,d’Apollonia,1996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Students of high ability, when placed in homogenous classrooms, will have deeper abstract conversations, work more collaboratively, and produce better quality work.(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Times New Roman"/>
              </a:rPr>
              <a:t>Sheppard &amp; Kanevsky,1999; Fuchs, Fuchs, Hamlett &amp;  Karns, 1998;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Shields, 1996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terature Re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Gifted students benefit from being placed in mixed ability classrooms and their academic performance is not effected by it (Melser, 1999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Gifted students may be educated in mixed ability groups if teachers are properly trained (Knobel &amp; Shaughnessey, 2002; 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Times New Roman"/>
              </a:rPr>
              <a:t>Cramond, Benson,&amp; Martian, 2002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; Davalos &amp; Griffin,1999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Gifted students may be served in heterogeneous classrooms if proper accommodations are made and differentiation of instruction occurs (</a:t>
            </a:r>
            <a:r>
              <a:rPr b="0" lang="en-US" sz="2000" spc="-1" strike="noStrike">
                <a:solidFill>
                  <a:srgbClr val="000000"/>
                </a:solidFill>
                <a:latin typeface="Calisto MT"/>
                <a:ea typeface="Times New Roman"/>
              </a:rPr>
              <a:t>Tomlinson, 2001;Tieso, 2003)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ypothesi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Heterogeneous grouping accompanied by differentiated instruction and proper teacher training will academically benefit 15 gifted students in a class of 23 students in grade five at P.S. 153 Brooklyn, New York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8:30:56Z</dcterms:created>
  <dc:creator>User</dc:creator>
  <dc:description/>
  <cp:keywords/>
  <dc:language>en-US</dc:language>
  <cp:lastModifiedBy>User</cp:lastModifiedBy>
  <dcterms:modified xsi:type="dcterms:W3CDTF">2008-10-11T19:41:35Z</dcterms:modified>
  <cp:revision>9</cp:revision>
  <dc:subject/>
  <dc:title>Heterogeneous Grouping and Gifted Stud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651033</vt:lpwstr>
  </property>
</Properties>
</file>